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png" ContentType="image/png"/>
  <Override PartName="/ppt/media/image1.gif" ContentType="image/gif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C335-7CE4-4258-8084-538FEC45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D8B0-8665-4204-8F89-C479E1D1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2A60-71D8-4259-8BF9-CDF1056A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418B-322B-4ED7-82C0-837B0462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E9D0-67F1-4B64-A919-1855272B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623C-1E2C-48E5-A6BE-5738C015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2F5C-1178-4DEE-BA2A-43D0BC75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D71A-65DB-4A1F-9C7E-75CEA868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53D4-C3B7-406D-A554-0D0CC452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1F82-A546-4607-ACD0-2697CBE7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842-9695-41CE-9B9B-02B38756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431D-9996-4A2C-A9E5-BCD21448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5D13-F37E-4AE3-B982-59D7FE6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35FB-7500-4F20-B7A0-3EA5BC14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6C92-42CC-41B0-85FA-21BBD542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8405-9428-4DEF-AA31-E090F356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5410-7EB4-4901-A880-A34FAE7D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8580-279D-4A4C-9B45-FCDD61CF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04D2-1106-408D-AEBE-BEFD8AC2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83CF-8C57-4D0E-BBB3-D9FE0C9C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3214-6062-4649-89D0-3284F5CF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6725-8153-4FB2-89FE-B6FF17F0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5BEF-69B9-41FE-8332-7018777C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A2E3-A278-4FEF-BE33-C8334817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B0D1-4414-4CB0-A1DB-E988BBCA6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0" y="5715000"/>
            <a:ext cx="9169560" cy="9777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6ac6efb25e0a35d160b484086b39328b"/>
          <p:cNvPicPr/>
          <p:nvPr/>
        </p:nvPicPr>
        <p:blipFill>
          <a:blip r:embed="rId2"/>
          <a:stretch/>
        </p:blipFill>
        <p:spPr>
          <a:xfrm>
            <a:off x="304920" y="30492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" name="Picture 21" descr="EqWorld logo"/>
          <p:cNvPicPr/>
          <p:nvPr/>
        </p:nvPicPr>
        <p:blipFill>
          <a:blip r:embed="rId2"/>
          <a:stretch/>
        </p:blipFill>
        <p:spPr>
          <a:xfrm>
            <a:off x="380880" y="304920"/>
            <a:ext cx="2052720" cy="1073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6ac6efb25e0a35d160b484086b39328b"/>
          <p:cNvPicPr/>
          <p:nvPr/>
        </p:nvPicPr>
        <p:blipFill>
          <a:blip r:embed="rId3"/>
          <a:stretch/>
        </p:blipFill>
        <p:spPr>
          <a:xfrm>
            <a:off x="1143000" y="45720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69" name="Freeform 23"/>
          <p:cNvSpPr/>
          <p:nvPr/>
        </p:nvSpPr>
        <p:spPr>
          <a:xfrm>
            <a:off x="0" y="5181480"/>
            <a:ext cx="9169560" cy="97812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6ac6efb25e0a35d160b484086b39328b"/>
          <p:cNvPicPr/>
          <p:nvPr/>
        </p:nvPicPr>
        <p:blipFill>
          <a:blip r:embed="rId4"/>
          <a:stretch/>
        </p:blipFill>
        <p:spPr>
          <a:xfrm>
            <a:off x="1295280" y="609480"/>
            <a:ext cx="40032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7916-892F-4AF0-B2C5-3161BD168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img.beta.rian.ru/images/4180/29/41802914.jpg" TargetMode="External"/><Relationship Id="rId5" Type="http://schemas.openxmlformats.org/officeDocument/2006/relationships/hyperlink" Target="http://img.beta.rian.ru/images/4180/29/41802914.jpg" TargetMode="External"/><Relationship Id="rId6" Type="http://schemas.openxmlformats.org/officeDocument/2006/relationships/hyperlink" Target="http://img.beta.rian.ru/images/4180/29/41802914.jpg" TargetMode="External"/><Relationship Id="rId7" Type="http://schemas.openxmlformats.org/officeDocument/2006/relationships/hyperlink" Target="http://img.beta.rian.ru/images/4180/29/41802914.jpg" TargetMode="External"/><Relationship Id="rId8" Type="http://schemas.openxmlformats.org/officeDocument/2006/relationships/hyperlink" Target="http://img.beta.rian.ru/images/4180/29/41802914.jpg" TargetMode="External"/><Relationship Id="rId9" Type="http://schemas.openxmlformats.org/officeDocument/2006/relationships/hyperlink" Target="http://img.beta.rian.ru/images/4180/29/41802914.jpg" TargetMode="External"/><Relationship Id="rId10" Type="http://schemas.openxmlformats.org/officeDocument/2006/relationships/hyperlink" Target="http://img0.liveinternet.ru/images/attach/c/0/48/400/48400305_Soloveva5.jpg" TargetMode="External"/><Relationship Id="rId11" Type="http://schemas.openxmlformats.org/officeDocument/2006/relationships/hyperlink" Target="http://www.openspace.ru/m/photo/2009/02/02/000_par1187072_big.jpg" TargetMode="External"/><Relationship Id="rId12" Type="http://schemas.openxmlformats.org/officeDocument/2006/relationships/hyperlink" Target="http://www.openspace.ru/m/photo/2009/02/02/000_par1187072_big.jpg" TargetMode="External"/><Relationship Id="rId13" Type="http://schemas.openxmlformats.org/officeDocument/2006/relationships/hyperlink" Target="http://www.openspace.ru/m/photo/2009/02/02/000_par1187072_big.jpg" TargetMode="External"/><Relationship Id="rId14" Type="http://schemas.openxmlformats.org/officeDocument/2006/relationships/hyperlink" Target="http://www.openspace.ru/m/photo/2009/02/02/000_par1187072_big.jpg" TargetMode="External"/><Relationship Id="rId15" Type="http://schemas.openxmlformats.org/officeDocument/2006/relationships/hyperlink" Target="http://www.openspace.ru/m/photo/2009/02/02/000_par1187072_big.jpg" TargetMode="External"/><Relationship Id="rId16" Type="http://schemas.openxmlformats.org/officeDocument/2006/relationships/hyperlink" Target="http://www.openspace.ru/m/photo/2009/02/02/000_par1187072_big.jpg" TargetMode="External"/><Relationship Id="rId17" Type="http://schemas.openxmlformats.org/officeDocument/2006/relationships/hyperlink" Target="http://rus.ruvr.ru/data/834/871/1234/Tereshkova.jpg" TargetMode="External"/><Relationship Id="rId18" Type="http://schemas.openxmlformats.org/officeDocument/2006/relationships/hyperlink" Target="http://ru.wikipedia.org/wiki/&#1058;&#1077;&#1088;&#1077;&#1096;&#1082;&#1086;&#1074;&#1072;" TargetMode="External"/><Relationship Id="rId19" Type="http://schemas.openxmlformats.org/officeDocument/2006/relationships/hyperlink" Target="http://epizodsspace.narod.ru/bibl/getlend/d17.jpg" TargetMode="External"/><Relationship Id="rId20" Type="http://schemas.openxmlformats.org/officeDocument/2006/relationships/hyperlink" Target="http://img-samara.fotki.yandex.ru/get/16/vitaliy-astro.2/0_a89b_8b36c3c0_XL" TargetMode="External"/><Relationship Id="rId21" Type="http://schemas.openxmlformats.org/officeDocument/2006/relationships/hyperlink" Target="http://otdix.at.ua/_ph/1/46813675.jpg" TargetMode="External"/><Relationship Id="rId22" Type="http://schemas.openxmlformats.org/officeDocument/2006/relationships/hyperlink" Target="http://img-samara.fotki.yandex.ru/get/23/mopsivit.1/0_959e_fc040a85_XL" TargetMode="External"/><Relationship Id="rId23" Type="http://schemas.openxmlformats.org/officeDocument/2006/relationships/hyperlink" Target="http://yadviga.ucoz.ru/_ph/3/719290639.jpg" TargetMode="External"/><Relationship Id="rId24" Type="http://schemas.openxmlformats.org/officeDocument/2006/relationships/hyperlink" Target="http://www.yarmp.yar.ru/0ff20af23f748970df67f42a86080f86b/uploads/thumb/f/ff/Mus_kosmos2.jpg/800px-Muskosmos2.jpg" TargetMode="External"/><Relationship Id="rId25" Type="http://schemas.openxmlformats.org/officeDocument/2006/relationships/hyperlink" Target="http://www.yarmp.yar.ru/0ff20af23f748970df67f42a86080f86b/uploads/thumb/f/ff/Mus_kosmos2.jpg/800px-Muskosmos2.jpg" TargetMode="Externa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762120" y="533520"/>
            <a:ext cx="79246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новная общеобразовательная школа №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г.о. Новокуйбышевск 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Ждырёва Лариса Александровна, </a:t>
            </a: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0880" y="419112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К урокам литературного чтения, окружающего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внеклассным мероприя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с использованием И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1 – 4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Любой У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685800" y="266688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43008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Первая женщина Вселенной"</a:t>
            </a:r>
            <a:endParaRPr b="1" lang="en-US" sz="1800" spc="1" strike="noStrike">
              <a:ln w="12600">
                <a:solidFill>
                  <a:srgbClr val="43008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80880" y="685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69 — 28 апреля 1997 года — Валентина Терешкова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инструктор-космонав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97 года она старший научный сотрудник Центра подготовки космонав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262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533520" y="60948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а Терешкова - кандидат технических наук, профессор, автор более 50 научны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000_par1187072_big"/>
          <p:cNvPicPr/>
          <p:nvPr/>
        </p:nvPicPr>
        <p:blipFill>
          <a:blip r:embed="rId4"/>
          <a:stretch/>
        </p:blipFill>
        <p:spPr>
          <a:xfrm>
            <a:off x="1676520" y="1447920"/>
            <a:ext cx="51814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038480" y="914400"/>
            <a:ext cx="464832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Воинские з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5 декабря 1962 — младший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лейтен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6 июня 1963 — капи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9 января 1965 — 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4 октября 1967 — подполк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30 апреля 1970 — инженер-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1975 г. — полковник-инже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995 — генерал-май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 30 апреля 1997 года находится в отстав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21569"/>
          <p:cNvPicPr/>
          <p:nvPr/>
        </p:nvPicPr>
        <p:blipFill>
          <a:blip r:embed="rId4"/>
          <a:stretch/>
        </p:blipFill>
        <p:spPr>
          <a:xfrm>
            <a:off x="457200" y="762120"/>
            <a:ext cx="3308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8088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142b"/>
                </a:solidFill>
                <a:latin typeface="Arial"/>
              </a:rPr>
              <a:t>Интересные ф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Именем Валентины Терешковой названы кратер на Луне и малая планета 1671 Cha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828800" y="1752480"/>
            <a:ext cx="55627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68580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алентине Владимировне присвоен почётный титу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«Величайшая женщина XX столет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а набережная в Евп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9419816"/>
          <p:cNvPicPr/>
          <p:nvPr/>
        </p:nvPicPr>
        <p:blipFill>
          <a:blip r:embed="rId3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9419816"/>
          <p:cNvPicPr/>
          <p:nvPr/>
        </p:nvPicPr>
        <p:blipFill>
          <a:blip r:embed="rId4"/>
          <a:stretch/>
        </p:blipFill>
        <p:spPr>
          <a:xfrm>
            <a:off x="152280" y="5335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60948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В Витебске, Иркутске, Кемерово, Клину, Королёве, Липецке, Мытищах, Ардатове, Одессе, и других городах России есть улицы Терешко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889440" y="60958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г. Витеб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Её именем назван проспект в городе Гудерм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324840" cy="4743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28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609480"/>
            <a:ext cx="79250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Музей В. В. Терешковой «Космос» недалеко от её родной дерев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38880" cy="4443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конго"/>
          <p:cNvPicPr/>
          <p:nvPr/>
        </p:nvPicPr>
        <p:blipFill>
          <a:blip r:embed="rId1"/>
          <a:stretch/>
        </p:blipFill>
        <p:spPr>
          <a:xfrm>
            <a:off x="2362320" y="23623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57200" y="762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1983 году была выпущена памятная монета с изоб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. Терешковой. Таким образом, женщина – космонавт Валентина Терешкова стала единственным советским гражданином чей портрет был при жизни помещён на советскую мон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Терешкова_москва"/>
          <p:cNvPicPr/>
          <p:nvPr/>
        </p:nvPicPr>
        <p:blipFill>
          <a:blip r:embed="rId4"/>
          <a:stretch/>
        </p:blipFill>
        <p:spPr>
          <a:xfrm>
            <a:off x="2743200" y="609480"/>
            <a:ext cx="3200400" cy="4267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4191120" y="5562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757880" y="5181480"/>
            <a:ext cx="513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Памятник Валентине Терешковой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Скульптор Г.П. Постни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0086"/>
                </a:solidFill>
                <a:latin typeface="Arial"/>
              </a:rPr>
              <a:t>Архитекторы: М.О. Барщ, А.Н. Колчин, 196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609480" y="45720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c142b"/>
                </a:solidFill>
                <a:latin typeface="Arial"/>
              </a:rPr>
              <a:t>Валенти́на Влади́мировна Терешко́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— </a:t>
            </a:r>
            <a:r>
              <a:rPr b="1" lang="ru-RU" sz="2000" spc="-1" strike="noStrike">
                <a:solidFill>
                  <a:srgbClr val="430086"/>
                </a:solidFill>
                <a:latin typeface="Arial"/>
              </a:rPr>
              <a:t>советский космонавт, первая женщина-космонавт Земли, Герой Советского Союза, генерал-май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41802914"/>
          <p:cNvPicPr/>
          <p:nvPr/>
        </p:nvPicPr>
        <p:blipFill>
          <a:blip r:embed="rId4"/>
          <a:stretch/>
        </p:blipFill>
        <p:spPr>
          <a:xfrm>
            <a:off x="2743200" y="1905120"/>
            <a:ext cx="3817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243828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2640" y="762120"/>
            <a:ext cx="8570520" cy="72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сылки на 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img.beta.rian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images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/4180/29/4180291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vokrugsveta.ru/img/cmn/2008/06/11/01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http://img0.liveinternet.ru/images/attach/c/0/48/400/48400305_Soloveva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nashivkosmose.ru/Gonka/img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jones.blog.bg/photos/1715/original/Tereshkov2C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rod.tomsk.ru/i/u/2657/vostok-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http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:/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/>
              </a:rPr>
              <a:t>www.openspace.ru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/>
              </a:rPr>
              <a:t>/m/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/>
              </a:rPr>
              <a:t>photo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/>
              </a:rPr>
              <a:t>/2009/02/02/000_par1187072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galery/2156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/download/file.php?id=338732&amp;t=1&amp;sid=21cb0b12465c32bba7c48b4638721d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upload.wikimedia.org/wikipedia/ru/f/f2/Терешкова_москва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/>
              </a:rPr>
              <a:t>http://rus.ruvr.ru/data/834/871/1234/Tereshkov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/>
              </a:rPr>
              <a:t>http://ru.wikipedia.org/wiki/Тереш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/>
              </a:rPr>
              <a:t>http://epizodsspace.narod.ru/bibl/getlend/d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/>
              </a:rPr>
              <a:t>http://img-samara.fotki.yandex.ru/get/16/vitaliy-astro.2/0_a89b_8b36c3c0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/>
              </a:rPr>
              <a:t>http://otdix.at.ua/_ph/1/468136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/>
              </a:rPr>
              <a:t>http://img-samara.fotki.yandex.ru/get/23/mopsivit.1/0_959e_fc040a85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/>
              </a:rPr>
              <a:t>http://yadviga.ucoz.ru/_ph/3/7192906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/>
              </a:rPr>
              <a:t>http://www.yarmp.yar.ru/0ff20af23f748970df67f42a86080f86b/uploads/thumb/f/ff/Mus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/>
              </a:rPr>
              <a:t>kosmos2.jpg/800px-Muskosmos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24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ersona.rin.ru/photo/f/10596/10/tereshkova-valentina-vladimiro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forum.faleristika.info:8080/download/file.php?id=307455&amp;t=1&amp;sid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370bac058a91d97f590a552c849f7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305568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520" y="578520"/>
            <a:ext cx="833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лентина Терешкова родилась в деревне Большое Масленниково Ярославской области в крестьянской семь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6 марта 1937 года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9419816"/>
          <p:cNvPicPr/>
          <p:nvPr/>
        </p:nvPicPr>
        <p:blipFill>
          <a:blip r:embed="rId3"/>
          <a:stretch/>
        </p:blipFill>
        <p:spPr>
          <a:xfrm>
            <a:off x="152280" y="76212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68920" cy="4444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05040" y="761040"/>
            <a:ext cx="74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Текстильный комбинат «Красный Перекоп»</a:t>
            </a:r>
            <a:r>
              <a:rPr b="0" lang="en-US" sz="2000" spc="-1" strike="noStrike">
                <a:solidFill>
                  <a:srgbClr val="43008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г. Яросл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9419816"/>
          <p:cNvPicPr/>
          <p:nvPr/>
        </p:nvPicPr>
        <p:blipFill>
          <a:blip r:embed="rId2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9419816"/>
          <p:cNvPicPr/>
          <p:nvPr/>
        </p:nvPicPr>
        <p:blipFill>
          <a:blip r:embed="rId3"/>
          <a:stretch/>
        </p:blipFill>
        <p:spPr>
          <a:xfrm>
            <a:off x="152280" y="685800"/>
            <a:ext cx="2509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img10"/>
          <p:cNvPicPr/>
          <p:nvPr/>
        </p:nvPicPr>
        <p:blipFill>
          <a:blip r:embed="rId4"/>
          <a:stretch/>
        </p:blipFill>
        <p:spPr>
          <a:xfrm>
            <a:off x="2133720" y="1295280"/>
            <a:ext cx="475272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2439720" y="609480"/>
            <a:ext cx="42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142b"/>
                </a:solidFill>
                <a:latin typeface="Arial"/>
              </a:rPr>
              <a:t>Сергей Павлович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013"/>
          <p:cNvPicPr/>
          <p:nvPr/>
        </p:nvPicPr>
        <p:blipFill>
          <a:blip r:embed="rId1"/>
          <a:stretch/>
        </p:blipFill>
        <p:spPr>
          <a:xfrm>
            <a:off x="380880" y="990720"/>
            <a:ext cx="6019920" cy="3327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457200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з сотен кандидатур были выбраны пятер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Жанна Ёркина, Татьяна Кузнецова, Валентина Пономарё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Ирина Соловьёва и Валентина Тереш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2066760" cy="3328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9419816"/>
          <p:cNvPicPr/>
          <p:nvPr/>
        </p:nvPicPr>
        <p:blipFill>
          <a:blip r:embed="rId4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9419816"/>
          <p:cNvPicPr/>
          <p:nvPr/>
        </p:nvPicPr>
        <p:blipFill>
          <a:blip r:embed="rId5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80880" y="60948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В отряд космонавтов Валентина Терешкова была зачис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12 марта 1962 года и стала проходить обучение как слушатель-космонавт 2 отряда. С 1 декабря 1962 года она — космонавт 1 отряда 1 отд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5486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9419816"/>
          <p:cNvPicPr/>
          <p:nvPr/>
        </p:nvPicPr>
        <p:blipFill>
          <a:blip r:embed="rId1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9419816"/>
          <p:cNvPicPr/>
          <p:nvPr/>
        </p:nvPicPr>
        <p:blipFill>
          <a:blip r:embed="rId2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9419816"/>
          <p:cNvPicPr/>
          <p:nvPr/>
        </p:nvPicPr>
        <p:blipFill>
          <a:blip r:embed="rId3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457200" y="60948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Свой космический полёт (первый в мире полёт женщины-космонавта) Валентина Терешкова совершила </a:t>
            </a:r>
            <a:r>
              <a:rPr b="1" lang="en-US" sz="2000" spc="-1" strike="noStrike">
                <a:solidFill>
                  <a:srgbClr val="9c142b"/>
                </a:solidFill>
                <a:latin typeface="Arial"/>
              </a:rPr>
              <a:t>16 июня 1963 года</a:t>
            </a: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 на космическом корабле Восток-6. Он продолжался почти трое суток.</a:t>
            </a:r>
            <a:r>
              <a:rPr b="1" lang="en-US" sz="1800" spc="-1" strike="noStrike">
                <a:solidFill>
                  <a:srgbClr val="43008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838080" y="52578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905120" y="1905120"/>
            <a:ext cx="556236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533520"/>
            <a:ext cx="830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30086"/>
                </a:solidFill>
                <a:latin typeface="Arial"/>
              </a:rPr>
              <a:t>Одновременно на орбите находился космический корабль Восток-5, пилотируемый космонавтом Валерием Быков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vostok-5"/>
          <p:cNvPicPr/>
          <p:nvPr/>
        </p:nvPicPr>
        <p:blipFill>
          <a:blip r:embed="rId1"/>
          <a:stretch/>
        </p:blipFill>
        <p:spPr>
          <a:xfrm>
            <a:off x="2647800" y="1295280"/>
            <a:ext cx="3346560" cy="472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279960" y="609588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142b"/>
                </a:solidFill>
                <a:latin typeface="Arial"/>
              </a:rPr>
              <a:t>В. Бы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9419816"/>
          <p:cNvPicPr/>
          <p:nvPr/>
        </p:nvPicPr>
        <p:blipFill>
          <a:blip r:embed="rId2"/>
          <a:stretch/>
        </p:blipFill>
        <p:spPr>
          <a:xfrm>
            <a:off x="0" y="0"/>
            <a:ext cx="380880" cy="3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9419816"/>
          <p:cNvPicPr/>
          <p:nvPr/>
        </p:nvPicPr>
        <p:blipFill>
          <a:blip r:embed="rId3"/>
          <a:stretch/>
        </p:blipFill>
        <p:spPr>
          <a:xfrm>
            <a:off x="152280" y="609480"/>
            <a:ext cx="250920" cy="2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9419816"/>
          <p:cNvPicPr/>
          <p:nvPr/>
        </p:nvPicPr>
        <p:blipFill>
          <a:blip r:embed="rId4"/>
          <a:stretch/>
        </p:blipFill>
        <p:spPr>
          <a:xfrm>
            <a:off x="762120" y="152280"/>
            <a:ext cx="250560" cy="2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0-23T13:53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